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99F0-1736-4A0E-8EED-11914C680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Q4L10 question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hron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persons, captains, etc., who joined themselves to David at Ziklag, v. 1-2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e various prayers of David for God’s hel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eems fitting within the great providential work of God to bring together those people who can be of help, comfort, and encouragement to Dav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s 142:3-4 his Psalm he had sa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my spirit grows faint within 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you who know 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th where I wal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have hidden a snare for 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Look to my right and se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is concerned for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no refu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cares for my life.  N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ok who is coming.  Like the Good Shepherd He is, God is sending David the help he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am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ilistines prepare to attack the Israelites, and Achish informs David that he shall accompany him to battle, v. 1-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ul, unable to obtain any answer from God, goes to a witch at En-dor to bring up Samuel, so that he may converse with him about the war, v. 3-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 that the direction of the witch was far north of where Saul w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o first find where the witch was located, then go to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was not as diligent as he had pretended earlier to rid the land of witches, and he must have know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etting an answer from God, Saul just wants to get any kind of divine answer, anything to confirm what he already wants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erson wants to believe a lie, God will send a strong delusion to help them believe what they want to believe. 2 Thess. 2:10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see a satelite view of the distance between David and S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am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uel appears, v. 12-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reproaches Saul with his misconduct, and informs him of his approaching ruin, v. 15-1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is greatly distressed; but at the solicitations of the woman and his own servants, he takes some food, and departs the same night, v. 20-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B3B-E557-46D6-BA32-DD5AE476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192-A750-4462-B248-16CE2BB3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6FC-227A-46F5-9200-883B4DE4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F8D-3C46-4BD2-A15F-84977479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675F-E1CC-4073-A1C4-4A43A9A2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B321-7C95-47A2-92A2-08D4E456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E0E1-16D8-4CA2-A33D-2F01D4AC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23FB-CDE6-44E9-A983-D2EF2842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438F-1F8C-46D7-AED4-0B8CC668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4031-96EF-4164-9E07-3C96DC7C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AD92-D64C-4257-9DFC-798D7BBA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509-4CDE-4DA5-921E-4721ECDE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4B98-2AF7-4813-8945-D177522B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C061-252E-49B2-9FBB-5AAF02F1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DC1F-B15B-4C19-BEFD-47F4B5B3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7BD7-FA92-4452-8C6A-20D16B8C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4FCD-4DB5-4B60-B02A-562A9C3A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9B9-8AB7-4347-91E0-713B8431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A27-0D5E-4E09-AD64-EF094069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68F-72E9-4E9E-90C2-29D406E0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512-7055-4414-BD09-07A2762F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B05-2663-4B1D-B20C-1DAAD675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93E-3007-42EF-B79C-9C7196A5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462-E8AB-4464-B5E4-C40D4F31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3DBE-1009-4847-B74F-A54F40C6B6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B6D1-7781-46D6-9D6D-1E05959D6E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United Kingd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4, Lesson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Chron. 12:1-18; 1 Sam.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41-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lp Comes To Davi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Chron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fferent persons, captains, etc., who joined themselves to David at Ziklag, v. 1-2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David’s Prayers For God’s Help?  Psa.142; 5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971800" y="4419720"/>
            <a:ext cx="838080" cy="6094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228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 Gathers To David at Zik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Desperation of Sau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Sam. 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ilistines prepare to attack the Israel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hish informs David that he shall accompany him to battle, v. 1-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l is unable to obtain any answer from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oes to a witch at En-dor to bring up Samuel, so that he may converse with him about the war, v. 3-1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608040"/>
            <a:ext cx="8915400" cy="578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67080" y="32004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434340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28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ul Had To Go Out of His Way To Find The 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24480" y="2666880"/>
            <a:ext cx="1067040" cy="533520"/>
          </a:xfrm>
          <a:prstGeom prst="ellipse">
            <a:avLst/>
          </a:prstGeom>
          <a:noFill/>
          <a:ln w="572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04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fear of the Philistines, Saul desperately turns to the witch at En 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75160" cy="6912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2895120" y="914400"/>
            <a:ext cx="297180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57040" y="2819520"/>
            <a:ext cx="4267080" cy="2743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400800" y="2590920"/>
            <a:ext cx="1552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Zikla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324480" y="304920"/>
            <a:ext cx="1162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n Do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Coming Doom of Sau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uel appears. v. 12-1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proaches Saul with his miscon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nforms him of his approaching ruin . v. 15-1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 is greatly distressed; but at the solicitations of the woman and his own servants, he takes some food, and departs the same night. v. 20-2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14:14:38Z</dcterms:created>
  <dc:creator>Terry W. Benton</dc:creator>
  <dc:description/>
  <dc:language>en-US</dc:language>
  <cp:lastModifiedBy>Terry W. Benton</cp:lastModifiedBy>
  <dcterms:modified xsi:type="dcterms:W3CDTF">2005-05-03T03:14:12Z</dcterms:modified>
  <cp:revision>4</cp:revision>
  <dc:subject/>
  <dc:title>The United Kingdom</dc:title>
</cp:coreProperties>
</file>